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E3E84-ED84-4B16-BB64-610141CE15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0D5EA-49DA-478D-A3AF-82BD3A8483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95D52-9B51-40FF-B200-9FBB4784EF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7F2B2-124B-4CD3-BB34-1E22ED15CC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C1A37-2436-4996-BAF2-09AB1DE5C0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484CF-920B-480D-97B1-CBE097BA03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6C34D-2D7F-4C41-BDFF-D7DD56E43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29DC9-CE08-4F15-B0FF-B764600CF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14F99-39A1-4260-A187-836E266AC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ED096-C219-4DE6-AC2A-AF0F0B5D2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66FBF-BCA9-41A0-92E3-745599DFC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0D5E0-54CA-48CB-859D-D539DD3EE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2E89C-8201-4E01-BAE3-752D43CDD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12C17-C1DA-408F-B9A7-A5A78AA59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217A7-8F26-4AEC-BA1F-C1AC22CB3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C53C1-0596-4F5B-9354-1A35EFFA0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4AC3C-FFF9-4912-B565-06353AEBC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3AE2E-A761-4732-87DF-2B5239260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DB8F4-2711-4994-9681-26B08EFB13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ED 521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th &amp; Science Metho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eed 521 Math &amp; Science Metho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you teach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o you teach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are the resourc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WordArt 4"/>
          <p:cNvSpPr txBox="1"/>
          <p:nvPr/>
        </p:nvSpPr>
        <p:spPr>
          <a:xfrm>
            <a:off x="1752480" y="4495680"/>
            <a:ext cx="5715000" cy="67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5929" dir="2028877" blurRad="0" rotWithShape="0">
                    <a:srgbClr val="c0c0c0"/>
                  </a:outerShdw>
                </a:effectLst>
                <a:latin typeface="Times New Roman"/>
              </a:rPr>
              <a:t>How do children learn?</a:t>
            </a:r>
            <a:endParaRPr b="0" lang="en-US" sz="4800" spc="1" strike="noStrike">
              <a:ln w="0">
                <a:noFill/>
              </a:ln>
              <a:solidFill>
                <a:srgbClr val="336699"/>
              </a:solidFill>
              <a:effectLst>
                <a:outerShdw dist="45929" dir="2028877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52" name="Picture 6" descr=""/>
          <p:cNvPicPr/>
          <p:nvPr/>
        </p:nvPicPr>
        <p:blipFill>
          <a:blip r:embed="rId1"/>
          <a:stretch/>
        </p:blipFill>
        <p:spPr>
          <a:xfrm>
            <a:off x="6324480" y="1752480"/>
            <a:ext cx="24498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ople learn in order t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lve problems.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construct patterns and conn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imi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ommod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learn through experience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learn in order to reduce the cognitive complexity of our lives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learn patterns that encompass particulars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s your math curriculum like thi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st in Detroit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240" y="1142640"/>
            <a:ext cx="80010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irst nigh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nce p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ee lim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g of mar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atz d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ee wooden poles  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econd nigh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 old ca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eball b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tree lim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t she left behind a wooden door, a box of newspapers, a 5-gallon can of gasoline, a bunch of tires and an AM radio from an old Ford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---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hird nigh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ee iron pip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 aluminum c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car ax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o garbage cans 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5" descr="Picture 1.png"/>
          <p:cNvPicPr/>
          <p:nvPr/>
        </p:nvPicPr>
        <p:blipFill>
          <a:blip r:embed="rId1"/>
          <a:stretch/>
        </p:blipFill>
        <p:spPr>
          <a:xfrm>
            <a:off x="4638600" y="4498920"/>
            <a:ext cx="1712880" cy="26082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" descr=""/>
          <p:cNvPicPr/>
          <p:nvPr/>
        </p:nvPicPr>
        <p:blipFill>
          <a:blip r:embed="rId2"/>
          <a:stretch/>
        </p:blipFill>
        <p:spPr>
          <a:xfrm>
            <a:off x="3657600" y="1143000"/>
            <a:ext cx="5283360" cy="2971800"/>
          </a:xfrm>
          <a:prstGeom prst="rect">
            <a:avLst/>
          </a:prstGeom>
          <a:ln w="12600">
            <a:solidFill>
              <a:srgbClr val="b3b3b3"/>
            </a:solidFill>
            <a:miter/>
          </a:ln>
          <a:effectLst>
            <a:outerShdw dist="101520" dir="5400000" blurRad="0" rotWithShape="0">
              <a:srgbClr val="808080">
                <a:alpha val="48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5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5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5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5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5" descr=""/>
          <p:cNvPicPr/>
          <p:nvPr/>
        </p:nvPicPr>
        <p:blipFill>
          <a:blip r:embed="rId1"/>
          <a:stretch/>
        </p:blipFill>
        <p:spPr>
          <a:xfrm>
            <a:off x="5251320" y="1447920"/>
            <a:ext cx="3892680" cy="259056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rest of the session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ivity: measur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mathematic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scienc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did you do in k-8 math?  scienc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ivity: spin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7" descr=""/>
          <p:cNvPicPr/>
          <p:nvPr/>
        </p:nvPicPr>
        <p:blipFill>
          <a:blip r:embed="rId2"/>
          <a:stretch/>
        </p:blipFill>
        <p:spPr>
          <a:xfrm>
            <a:off x="5168880" y="4784760"/>
            <a:ext cx="2043000" cy="204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3T22:01:12Z</dcterms:created>
  <dc:creator>Seattle University</dc:creator>
  <dc:description/>
  <dc:language>en-US</dc:language>
  <cp:lastModifiedBy>Mark Roddy</cp:lastModifiedBy>
  <cp:lastPrinted>2008-03-04T19:40:59Z</cp:lastPrinted>
  <dcterms:modified xsi:type="dcterms:W3CDTF">2014-03-04T21:15:46Z</dcterms:modified>
  <cp:revision>15</cp:revision>
  <dc:subject/>
  <dc:title>TEED 521 Math &amp; Science Methods</dc:title>
</cp:coreProperties>
</file>